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287-8C6E-4F8D-81F6-99839C30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99F-2486-4503-82E5-73C3403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CF6-8675-4993-9AC9-749A8DD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AE4-EA81-46BA-90F7-209C8A49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EE8-F080-4FE0-803E-1B80081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105-16A4-4493-890F-C6E5C38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345-5EA0-42CA-A987-7B11081F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B01-6656-420C-BB61-4CCCD54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37C-8D48-47D2-B9A8-9592E40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F64-BA14-4B52-954C-97FBF4B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2C7-3E59-4C86-AF9E-BB6A77E0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6C3-FBAC-403F-B54E-CE0663A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9123-EA68-427B-B6DF-FE3FAE6A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4437000"/>
            <a:ext cx="550872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ffffff"/>
                </a:solidFill>
                <a:latin typeface="Arial"/>
              </a:rPr>
              <a:t>Gambling</a:t>
            </a:r>
            <a:r>
              <a:rPr b="0" lang="en-NZ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19200" y="5921280"/>
            <a:ext cx="4024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Elliot C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7640"/>
            <a:ext cx="51991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gative consumption exter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-1307" t="12543" r="11394" b="17113"/>
          <a:stretch/>
        </p:blipFill>
        <p:spPr>
          <a:xfrm>
            <a:off x="1403280" y="170028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236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076640"/>
            <a:ext cx="57636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3789360"/>
            <a:ext cx="287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3933720"/>
            <a:ext cx="431640" cy="5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64500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573360"/>
            <a:ext cx="14436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27640" y="2997360"/>
            <a:ext cx="2665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ative consumption externality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crease standard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ss of relationships (fam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uses a big deadweigh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ge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3:59:23Z</dcterms:created>
  <dc:creator>Sami&amp;Ell</dc:creator>
  <dc:description/>
  <dc:language>en-US</dc:language>
  <cp:lastModifiedBy>Sami&amp;Ell</cp:lastModifiedBy>
  <dcterms:modified xsi:type="dcterms:W3CDTF">2008-07-29T06:40:44Z</dcterms:modified>
  <cp:revision>5</cp:revision>
  <dc:subject/>
  <dc:title>Gambling </dc:title>
</cp:coreProperties>
</file>